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5.wmf" ContentType="image/x-wmf"/>
  <Override PartName="/ppt/media/image28.wmf" ContentType="image/x-wmf"/>
  <Override PartName="/ppt/media/image1.jpeg" ContentType="image/jpeg"/>
  <Override PartName="/ppt/media/image15.wmf" ContentType="image/x-wmf"/>
  <Override PartName="/ppt/media/image27.wmf" ContentType="image/x-wmf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927C7-E143-4EE2-B022-480FB6FD69E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FCA20-C5B0-4727-A049-51278114957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0E433-9602-4808-AF40-B7A8CA7BAD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BC587-661E-4D9A-942C-C567BFA97FD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E5572-2E98-453D-941C-02882E1A7AE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DF42C-B005-48EF-B249-C9A396557D8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A496B-722B-440A-AAEE-BA0BAE0C8D4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9E9A2-D30C-4305-A9F0-91C791C8662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A4F9C-1763-4CBA-8685-6F72A49CAC6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4C08A-CC03-4E37-BE0A-FE7D8112B01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44218-A9E4-42BC-B628-6D1690DBB5A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4934E-8865-40A6-997C-5B3714E8B2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"/>
          </p:nvPr>
        </p:nvSpPr>
        <p:spPr>
          <a:xfrm>
            <a:off x="0" y="6381360"/>
            <a:ext cx="37800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2"/>
          </p:nvPr>
        </p:nvSpPr>
        <p:spPr>
          <a:xfrm>
            <a:off x="3995640" y="6381360"/>
            <a:ext cx="7192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2A1E-9385-494F-973F-2664673A269E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217000" y="5927760"/>
            <a:ext cx="927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628640"/>
            <a:ext cx="9144000" cy="32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Turkish Economy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Banking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June 18, 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200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595F5-73B5-48C4-8F96-985A137B12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eneral Economic Out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9280" y="1341000"/>
            <a:ext cx="81471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1718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growth declines since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inflation stabilized around 10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ublic finance discipline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growth is critically dependent on capital inflow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re’s an ongoing savings defic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re’s a fast increase in foreign debt st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unemployment which was around 10% increased with the cri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0C4F6-BC7C-4845-8EF7-6B4F3B87FC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2133720"/>
            <a:ext cx="86421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Part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Ban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DCDDA-834B-4999-BC8E-E742EEF004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Number of 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68360" y="1197000"/>
          <a:ext cx="8218440" cy="453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97000"/>
                    <a:ext cx="82184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97428-4C77-4F9A-BA3D-FAE9E6A783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Number of Branches and Personnel</a:t>
            </a:r>
            <a:r>
              <a:rPr b="1" lang="en-NZ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68360" y="1628640"/>
          <a:ext cx="4036680" cy="4524840"/>
        </p:xfrm>
        <a:graphic>
          <a:graphicData uri="http://schemas.openxmlformats.org/drawingml/2006/table">
            <a:tbl>
              <a:tblPr/>
              <a:tblGrid>
                <a:gridCol w="4036680"/>
              </a:tblGrid>
              <a:tr h="4524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68360" y="1341360"/>
          <a:ext cx="8218440" cy="453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21844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93CA7-48AA-4175-865D-0699DB9F81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otal Assets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USD billion)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otal Assets/GDP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1413000"/>
          <a:ext cx="843588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3000"/>
                    <a:ext cx="84358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D2AC7-99FB-4542-B305-AB36DA6457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4739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L/FX Composition of Assets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68360" y="1052640"/>
          <a:ext cx="8280360" cy="47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8280360" cy="47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DB9B6-A820-426F-8043-C8F438B4F7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Loans under follow-up/ </a:t>
            </a:r>
            <a:br>
              <a:rPr sz="3200"/>
            </a:b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Total Loan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24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68360" y="1341360"/>
          <a:ext cx="8136000" cy="455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13600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580F4-F556-49AC-8F4E-81737A3962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Arial"/>
              </a:rPr>
              <a:t>Loans/Deposit Ratio</a:t>
            </a:r>
            <a:r>
              <a:rPr b="0" lang="tr-TR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Arial"/>
              </a:rPr>
              <a:t>(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052640"/>
          <a:ext cx="822960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822960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00CC9-7FFD-4C87-A984-6C4C627148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pital Ad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qu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y and Shareholders’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95280" y="1197000"/>
          <a:ext cx="8280360" cy="482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8280360" cy="48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F0532-4EBD-4C63-96D2-C6CFA2C8CD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eneral Outlook of Banking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980640"/>
            <a:ext cx="8785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st increase in number of brances and personn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st increase in total assets and loa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Money substitution is around 3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Loans under follow up is at a low level (3%) and 90% of them are provisio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ratio of loans/deposits in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CAR of the sector is around 17 perc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22DF9-401B-4E7E-BBCC-ACA4D72AE9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916280"/>
            <a:ext cx="76183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Part I</a:t>
            </a:r>
            <a:br>
              <a:rPr sz="3600"/>
            </a:b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Turkish Ec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EC4D4-FD81-45BC-A310-1775B8BAE0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095480" y="2205000"/>
            <a:ext cx="6953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Part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lobal Crisi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Turkish Banking Sector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BDEA8-833E-4483-B03F-30AD07D62D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velopment of Liabilitie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USD terms, October 2008=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69800" y="1628640"/>
          <a:ext cx="82263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628640"/>
                    <a:ext cx="8226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5B00B-EB34-44AE-BEFC-B14D8E1EEB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velopment of Asset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USD terms, October 2008=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484280"/>
          <a:ext cx="822960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84280"/>
                    <a:ext cx="82296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4636D-A9A8-431B-9E35-B923E6E67A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Composition of Liabilitie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TL te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0920" y="1341360"/>
          <a:ext cx="864216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6421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6716F-B24A-4043-8874-4367DE8086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Composition of Asset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TL te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24000" y="1268280"/>
          <a:ext cx="824364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268280"/>
                    <a:ext cx="824364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6C8E0-4177-4E5C-8C00-CF16855C1E0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posit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50920" y="1125360"/>
          <a:ext cx="843588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43588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9EB42-1CA8-49B1-B998-4D3639130A1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iquid Asset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268280"/>
          <a:ext cx="8229600" cy="455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68280"/>
                    <a:ext cx="8229600" cy="45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61823-AE2B-40ED-A83F-B80A78C9F66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Securities (TL/USD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1125360"/>
          <a:ext cx="864216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64216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E46E0-1148-4EF5-943D-66A089DAE34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oan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57200" y="1125360"/>
          <a:ext cx="822960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25360"/>
                    <a:ext cx="822960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4F182-361D-43A7-B9B0-A34D885B454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oans under follow-up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57200" y="1052640"/>
          <a:ext cx="822960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822960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F0F8E-CDCA-40B1-B322-9B0103292F3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GDP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% change in real terms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95280" y="1413000"/>
          <a:ext cx="8291520" cy="43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29152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3E237-33F6-43CA-9971-8972B3B0E1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FX Position (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1268280"/>
          <a:ext cx="8229600" cy="468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68280"/>
                    <a:ext cx="82296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29074-03BE-4614-83FA-DDF117D5269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Effects of th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50560" y="69228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iabilities decreased slightly in real 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omposition of total assets 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otal loans decreased slightly, while securities incre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oans under follow-up increased shar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FX risk, liquidity risk and interest risk are ignorably 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apital adequacy ratio remained at high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 quality of loan stock deteriorates due to decreasing economic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7AED4-6D10-45CA-AED7-248EA01DACC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Inflation 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% change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197000"/>
          <a:ext cx="8713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713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7AE63-0079-4BAD-BC0F-79858B1162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PSBR/GDP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1990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-200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24000" y="1197000"/>
          <a:ext cx="8362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8362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862D5-BEFB-4EF6-90EE-B6F5666F6E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Net Savings/GDP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1125360"/>
          <a:ext cx="829152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2915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4FDF9-9E0E-4D30-A366-FFFF780BBE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Growth and Capital Flows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68360" y="907920"/>
          <a:ext cx="8218440" cy="482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907920"/>
                    <a:ext cx="821844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22768-C57C-4207-9FA3-D43B8B21BF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External Debt Stock (USD billion)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981000"/>
          <a:ext cx="8435880" cy="496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81000"/>
                    <a:ext cx="843588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B2847-3EE9-4FFC-B1E7-8D11889252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nemployment Rate (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5280" y="981000"/>
          <a:ext cx="8291520" cy="489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81000"/>
                    <a:ext cx="82915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9462D-9446-4341-88D9-EE8D460550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7:33:45Z</dcterms:created>
  <dc:creator> </dc:creator>
  <dc:description/>
  <dc:language>en-US</dc:language>
  <cp:lastModifiedBy>mumcum</cp:lastModifiedBy>
  <dcterms:modified xsi:type="dcterms:W3CDTF">2009-06-16T09:56:14Z</dcterms:modified>
  <cp:revision>125</cp:revision>
  <dc:subject/>
  <dc:title>Slide 1</dc:title>
</cp:coreProperties>
</file>